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type.wav" ContentType="audio/x-wav"/>
  <Override PartName="/ppt/media/image1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motor.wav" ContentType="audio/x-wav"/>
  <Override PartName="/ppt/media/image15.png" ContentType="image/png"/>
  <Override PartName="/ppt/media/image14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7F6-B747-431E-815B-4B447E6C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3680" y="420912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492-405E-4FB4-9428-9EF9AD83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904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CB5-D179-448D-B33E-4B3586B3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004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368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8004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C88-C777-41A9-AC72-955CFA40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D393-B6DF-43AD-A4D5-7F52DC20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1618-8E7F-4522-AB24-F272F01C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FC77-B762-4174-9E02-9A07E333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90F3-F8B5-4C1D-858D-28D33C7D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1AC9-3A7A-46D9-BFD4-196C0FB2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93680" y="838080"/>
            <a:ext cx="676260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1243-3410-4934-93CD-4DCBFAA9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4CCA-BEB0-4C7E-BC24-A5E573F3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96E-C3A1-4900-80D1-6A3A4222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904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B228-AEF0-4FC7-AA54-1FAF62D6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670E-6E4D-47CE-AF5C-6D6EAE99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93680" y="420912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D0FB-ACD1-48FF-B1C1-FA2C227E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904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D6D9-D766-4BAF-86CC-EA498292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004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66760" y="220968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9368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8004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66760" y="4209120"/>
            <a:ext cx="2177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C041-832A-4658-B17E-7A803BD6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0BE-DEF6-4EA1-8021-1B9E27A8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93D-F938-46B3-9498-06D23AF6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10A-B8DF-40BE-9502-A0F822E3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3680" y="838080"/>
            <a:ext cx="676260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150-8231-4A84-934B-E492320B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83B-83A5-487C-8930-FD2ADFEE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9040" y="420912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EEE-C9B7-490D-8272-3BC4F70B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9040" y="2209680"/>
            <a:ext cx="3300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3680" y="4209120"/>
            <a:ext cx="6762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AD2-90F6-4DC1-858C-2E8552EB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AD6A-B85D-4453-BF10-6D50CC980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45DF-0D66-429D-9E9C-4E99448D6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moto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This%20PowerPoint%20was%20downloaded%20from%20http:/tabstart.com/directory/education/i-and-me-grammar-lesson-1419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2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I or Me?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55960"/>
            <a:ext cx="64008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ing I or 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ontknow"/>
          <p:cNvPicPr/>
          <p:nvPr/>
        </p:nvPicPr>
        <p:blipFill>
          <a:blip r:embed="rId1"/>
          <a:stretch/>
        </p:blipFill>
        <p:spPr>
          <a:xfrm>
            <a:off x="3276720" y="4648320"/>
            <a:ext cx="2190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t beside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erry and 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oys"/>
          <p:cNvPicPr/>
          <p:nvPr/>
        </p:nvPicPr>
        <p:blipFill>
          <a:blip r:embed="rId1"/>
          <a:stretch/>
        </p:blipFill>
        <p:spPr>
          <a:xfrm>
            <a:off x="4114800" y="2743200"/>
            <a:ext cx="2709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93680" y="1714320"/>
            <a:ext cx="67626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 when do you use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with the other person’s na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ttentive"/>
          <p:cNvPicPr/>
          <p:nvPr/>
        </p:nvPicPr>
        <p:blipFill>
          <a:blip r:embed="rId1"/>
          <a:stretch/>
        </p:blipFill>
        <p:spPr>
          <a:xfrm>
            <a:off x="3691080" y="3421080"/>
            <a:ext cx="32432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800" spc="-1" strike="noStrike">
                <a:solidFill>
                  <a:srgbClr val="cc0000"/>
                </a:solidFill>
                <a:latin typeface="Arial"/>
              </a:rPr>
              <a:t>And Trick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3360" y="259092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ver the word “</a:t>
            </a: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a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 plus the other person’s name.  Read the sentence and listen for the correct pronou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agic"/>
          <p:cNvPicPr/>
          <p:nvPr/>
        </p:nvPicPr>
        <p:blipFill>
          <a:blip r:embed="rId1"/>
          <a:stretch/>
        </p:blipFill>
        <p:spPr>
          <a:xfrm>
            <a:off x="6781680" y="0"/>
            <a:ext cx="1860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And Trick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01760" y="2496960"/>
            <a:ext cx="78422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bert and I walked hom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676520" y="2438280"/>
            <a:ext cx="28191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kids6"/>
          <p:cNvPicPr/>
          <p:nvPr/>
        </p:nvPicPr>
        <p:blipFill>
          <a:blip r:embed="rId1"/>
          <a:stretch/>
        </p:blipFill>
        <p:spPr>
          <a:xfrm>
            <a:off x="3962520" y="3733920"/>
            <a:ext cx="2361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And Trick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573280"/>
            <a:ext cx="83822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ive the paper to Steve and m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486400" y="2514600"/>
            <a:ext cx="2590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copypaper_color"/>
          <p:cNvPicPr/>
          <p:nvPr/>
        </p:nvPicPr>
        <p:blipFill>
          <a:blip r:embed="rId1"/>
          <a:stretch/>
        </p:blipFill>
        <p:spPr>
          <a:xfrm>
            <a:off x="2057400" y="3314880"/>
            <a:ext cx="52387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 the sentence that correctly uses I and m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eager"/>
          <p:cNvPicPr/>
          <p:nvPr/>
        </p:nvPicPr>
        <p:blipFill>
          <a:blip r:embed="rId1"/>
          <a:stretch/>
        </p:blipFill>
        <p:spPr>
          <a:xfrm>
            <a:off x="3962520" y="3505320"/>
            <a:ext cx="2968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ke and I worked for hour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ke and me worked for hour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00200" y="2209680"/>
            <a:ext cx="2057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600200" y="2895480"/>
            <a:ext cx="2057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comptrkids"/>
          <p:cNvPicPr/>
          <p:nvPr/>
        </p:nvPicPr>
        <p:blipFill>
          <a:blip r:embed="rId1"/>
          <a:stretch/>
        </p:blipFill>
        <p:spPr>
          <a:xfrm>
            <a:off x="3352680" y="3581280"/>
            <a:ext cx="36576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b and I rode the bu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b and me rode the bu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676520" y="22096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1676520" y="28954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6" descr="bus-catch"/>
          <p:cNvPicPr/>
          <p:nvPr/>
        </p:nvPicPr>
        <p:blipFill>
          <a:blip r:embed="rId1"/>
          <a:stretch/>
        </p:blipFill>
        <p:spPr>
          <a:xfrm>
            <a:off x="3733920" y="3809880"/>
            <a:ext cx="26668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p Gary and me paint thi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p Gary and I paint thi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743200" y="2209680"/>
            <a:ext cx="2057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743200" y="2971800"/>
            <a:ext cx="2057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Artwork"/>
          <p:cNvPicPr/>
          <p:nvPr/>
        </p:nvPicPr>
        <p:blipFill>
          <a:blip r:embed="rId1"/>
          <a:stretch/>
        </p:blipFill>
        <p:spPr>
          <a:xfrm>
            <a:off x="3733920" y="3276720"/>
            <a:ext cx="3162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sits behind Sue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sits behind Sue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181480" y="22096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181480" y="28954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i-know"/>
          <p:cNvPicPr/>
          <p:nvPr/>
        </p:nvPicPr>
        <p:blipFill>
          <a:blip r:embed="rId1"/>
          <a:stretch/>
        </p:blipFill>
        <p:spPr>
          <a:xfrm>
            <a:off x="3429000" y="3886200"/>
            <a:ext cx="25812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3047760"/>
            <a:ext cx="67626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n you write about yourself, you use the pronouns I or me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nnouncing"/>
          <p:cNvPicPr/>
          <p:nvPr/>
        </p:nvPicPr>
        <p:blipFill>
          <a:blip r:embed="rId1"/>
          <a:stretch/>
        </p:blipFill>
        <p:spPr>
          <a:xfrm>
            <a:off x="6781680" y="952560"/>
            <a:ext cx="1857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3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one looked at Hal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one looked at Hal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019920" y="2209680"/>
            <a:ext cx="16761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019920" y="2895480"/>
            <a:ext cx="16761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boys"/>
          <p:cNvPicPr/>
          <p:nvPr/>
        </p:nvPicPr>
        <p:blipFill>
          <a:blip r:embed="rId1"/>
          <a:stretch/>
        </p:blipFill>
        <p:spPr>
          <a:xfrm>
            <a:off x="3886200" y="4038480"/>
            <a:ext cx="2266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I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me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cone-strawberry"/>
          <p:cNvPicPr/>
          <p:nvPr/>
        </p:nvPicPr>
        <p:blipFill>
          <a:blip r:embed="rId1"/>
          <a:stretch/>
        </p:blipFill>
        <p:spPr>
          <a:xfrm>
            <a:off x="3733920" y="3457440"/>
            <a:ext cx="23050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I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me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one-strawberry"/>
          <p:cNvPicPr/>
          <p:nvPr/>
        </p:nvPicPr>
        <p:blipFill>
          <a:blip r:embed="rId1"/>
          <a:stretch/>
        </p:blipFill>
        <p:spPr>
          <a:xfrm>
            <a:off x="3733920" y="3457440"/>
            <a:ext cx="2305080" cy="34005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1523880" y="2057400"/>
            <a:ext cx="2667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523880" y="2819520"/>
            <a:ext cx="2667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 and I love ice crea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cone-strawberry"/>
          <p:cNvPicPr/>
          <p:nvPr/>
        </p:nvPicPr>
        <p:blipFill>
          <a:blip r:embed="rId1"/>
          <a:stretch/>
        </p:blipFill>
        <p:spPr>
          <a:xfrm>
            <a:off x="3733920" y="3457440"/>
            <a:ext cx="23050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one wanted help from Ted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one wanted help from Ted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ontacts"/>
          <p:cNvPicPr/>
          <p:nvPr/>
        </p:nvPicPr>
        <p:blipFill>
          <a:blip r:embed="rId1"/>
          <a:stretch/>
        </p:blipFill>
        <p:spPr>
          <a:xfrm>
            <a:off x="4114800" y="4038480"/>
            <a:ext cx="2627280" cy="2667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6934320" y="213372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6934320" y="335268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one wanted help from Ted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contacts"/>
          <p:cNvPicPr/>
          <p:nvPr/>
        </p:nvPicPr>
        <p:blipFill>
          <a:blip r:embed="rId1"/>
          <a:stretch/>
        </p:blipFill>
        <p:spPr>
          <a:xfrm>
            <a:off x="4114800" y="4038480"/>
            <a:ext cx="2627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Kathy and I finished, we put our books awa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Kathy and me finished, we put our books awa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boyteach"/>
          <p:cNvPicPr/>
          <p:nvPr/>
        </p:nvPicPr>
        <p:blipFill>
          <a:blip r:embed="rId1"/>
          <a:stretch/>
        </p:blipFill>
        <p:spPr>
          <a:xfrm>
            <a:off x="3657600" y="4524480"/>
            <a:ext cx="2752560" cy="24098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2819520" y="2209680"/>
            <a:ext cx="2209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819520" y="3352680"/>
            <a:ext cx="2209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8960" y="2421000"/>
            <a:ext cx="79246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Kathy and I finished, we put our books awa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boyteach"/>
          <p:cNvPicPr/>
          <p:nvPr/>
        </p:nvPicPr>
        <p:blipFill>
          <a:blip r:embed="rId1"/>
          <a:stretch/>
        </p:blipFill>
        <p:spPr>
          <a:xfrm>
            <a:off x="3657600" y="4524480"/>
            <a:ext cx="27525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81532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the chair beside John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the chair beside John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chairstudents"/>
          <p:cNvPicPr/>
          <p:nvPr/>
        </p:nvPicPr>
        <p:blipFill>
          <a:blip r:embed="rId1"/>
          <a:stretch/>
        </p:blipFill>
        <p:spPr>
          <a:xfrm>
            <a:off x="4095720" y="3619440"/>
            <a:ext cx="2792520" cy="32385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6324480" y="205740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324480" y="281952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81532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the chair beside John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chairstudents"/>
          <p:cNvPicPr/>
          <p:nvPr/>
        </p:nvPicPr>
        <p:blipFill>
          <a:blip r:embed="rId1"/>
          <a:stretch/>
        </p:blipFill>
        <p:spPr>
          <a:xfrm>
            <a:off x="4095720" y="3619440"/>
            <a:ext cx="2792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like to go to church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church"/>
          <p:cNvPicPr/>
          <p:nvPr/>
        </p:nvPicPr>
        <p:blipFill>
          <a:blip r:embed="rId1"/>
          <a:stretch/>
        </p:blipFill>
        <p:spPr>
          <a:xfrm>
            <a:off x="4062240" y="2747880"/>
            <a:ext cx="24480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m opened the door for Nana and 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m opened the door for Nana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6934320" y="2057400"/>
            <a:ext cx="2133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934320" y="3429000"/>
            <a:ext cx="2133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0" descr="door-open"/>
          <p:cNvPicPr/>
          <p:nvPr/>
        </p:nvPicPr>
        <p:blipFill>
          <a:blip r:embed="rId1"/>
          <a:stretch/>
        </p:blipFill>
        <p:spPr>
          <a:xfrm>
            <a:off x="4038480" y="4191120"/>
            <a:ext cx="190512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ich sentence correctly uses I or me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SzPct val="2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m opened the door for Nana and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door-open"/>
          <p:cNvPicPr/>
          <p:nvPr/>
        </p:nvPicPr>
        <p:blipFill>
          <a:blip r:embed="rId1"/>
          <a:stretch/>
        </p:blipFill>
        <p:spPr>
          <a:xfrm>
            <a:off x="4038480" y="4191120"/>
            <a:ext cx="190512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ember the </a:t>
            </a: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And Te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using I or me and another person’s name, cover the word “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and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other person’s name to find which pronoun would be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magic"/>
          <p:cNvPicPr/>
          <p:nvPr/>
        </p:nvPicPr>
        <p:blipFill>
          <a:blip r:embed="rId1"/>
          <a:stretch/>
        </p:blipFill>
        <p:spPr>
          <a:xfrm>
            <a:off x="4724280" y="4191120"/>
            <a:ext cx="1860840" cy="26668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376200" y="5970600"/>
            <a:ext cx="3886200" cy="398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This PowerPoint was downloaded from </a:t>
            </a:r>
            <a:r>
              <a:rPr b="0" lang="en-NZ" sz="1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tabstart.com/directory/education/i-and-me-grammar-lesson-14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 gave the book to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books-carry"/>
          <p:cNvPicPr/>
          <p:nvPr/>
        </p:nvPicPr>
        <p:blipFill>
          <a:blip r:embed="rId1"/>
          <a:stretch/>
        </p:blipFill>
        <p:spPr>
          <a:xfrm>
            <a:off x="3429000" y="2590920"/>
            <a:ext cx="355284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93680" y="110484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the pronoun appears in the subject of a sentence, use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I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3429000"/>
            <a:ext cx="67629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I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s late for school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981080" y="4419720"/>
            <a:ext cx="5335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"/>
          <p:cNvSpPr/>
          <p:nvPr/>
        </p:nvSpPr>
        <p:spPr>
          <a:xfrm>
            <a:off x="2819520" y="4419720"/>
            <a:ext cx="5029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0"/>
          <p:cNvGrpSpPr/>
          <p:nvPr/>
        </p:nvGrpSpPr>
        <p:grpSpPr>
          <a:xfrm>
            <a:off x="4724280" y="4648320"/>
            <a:ext cx="2514600" cy="1752120"/>
            <a:chOff x="4724280" y="4648320"/>
            <a:chExt cx="2514600" cy="1752120"/>
          </a:xfrm>
        </p:grpSpPr>
        <p:sp>
          <p:nvSpPr>
            <p:cNvPr id="98" name="AutoShape 7"/>
            <p:cNvSpPr/>
            <p:nvPr/>
          </p:nvSpPr>
          <p:spPr>
            <a:xfrm>
              <a:off x="4724280" y="4648320"/>
              <a:ext cx="457200" cy="1066680"/>
            </a:xfrm>
            <a:prstGeom prst="upArrow">
              <a:avLst>
                <a:gd name="adj1" fmla="val 50000"/>
                <a:gd name="adj2" fmla="val 5832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4800600" y="5638680"/>
              <a:ext cx="2438280" cy="76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Predicat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2209680" y="4876920"/>
            <a:ext cx="2514600" cy="1752120"/>
            <a:chOff x="2209680" y="4876920"/>
            <a:chExt cx="2514600" cy="1752120"/>
          </a:xfrm>
        </p:grpSpPr>
        <p:sp>
          <p:nvSpPr>
            <p:cNvPr id="101" name="AutoShape 12"/>
            <p:cNvSpPr/>
            <p:nvPr/>
          </p:nvSpPr>
          <p:spPr>
            <a:xfrm>
              <a:off x="2209680" y="4876920"/>
              <a:ext cx="457200" cy="1066680"/>
            </a:xfrm>
            <a:prstGeom prst="upArrow">
              <a:avLst>
                <a:gd name="adj1" fmla="val 50000"/>
                <a:gd name="adj2" fmla="val 5832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2286000" y="5867280"/>
              <a:ext cx="2438280" cy="76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Subjec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93680" y="110484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the pronoun appears in the predicate part of the sentence, use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3429000"/>
            <a:ext cx="80773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erry went home with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1752480" y="4191120"/>
            <a:ext cx="137160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81280" y="4191120"/>
            <a:ext cx="5029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6"/>
          <p:cNvGrpSpPr/>
          <p:nvPr/>
        </p:nvGrpSpPr>
        <p:grpSpPr>
          <a:xfrm>
            <a:off x="5181480" y="4267080"/>
            <a:ext cx="2514600" cy="1752840"/>
            <a:chOff x="5181480" y="4267080"/>
            <a:chExt cx="2514600" cy="1752840"/>
          </a:xfrm>
        </p:grpSpPr>
        <p:sp>
          <p:nvSpPr>
            <p:cNvPr id="108" name="AutoShape 7"/>
            <p:cNvSpPr/>
            <p:nvPr/>
          </p:nvSpPr>
          <p:spPr>
            <a:xfrm>
              <a:off x="5181480" y="4267080"/>
              <a:ext cx="457200" cy="1067040"/>
            </a:xfrm>
            <a:prstGeom prst="upArrow">
              <a:avLst>
                <a:gd name="adj1" fmla="val 50000"/>
                <a:gd name="adj2" fmla="val 5834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257800" y="5257800"/>
              <a:ext cx="2438280" cy="762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Predicat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1828800" y="4343400"/>
            <a:ext cx="2514600" cy="1752120"/>
            <a:chOff x="1828800" y="4343400"/>
            <a:chExt cx="2514600" cy="1752120"/>
          </a:xfrm>
        </p:grpSpPr>
        <p:sp>
          <p:nvSpPr>
            <p:cNvPr id="111" name="AutoShape 10"/>
            <p:cNvSpPr/>
            <p:nvPr/>
          </p:nvSpPr>
          <p:spPr>
            <a:xfrm>
              <a:off x="1828800" y="4343400"/>
              <a:ext cx="457200" cy="1066680"/>
            </a:xfrm>
            <a:prstGeom prst="upArrow">
              <a:avLst>
                <a:gd name="adj1" fmla="val 50000"/>
                <a:gd name="adj2" fmla="val 5832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905120" y="5333760"/>
              <a:ext cx="2438280" cy="76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Subjec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I and Me With Another Na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imes we combine the pronouns I and me with another pers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etsy and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ke to rea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V was too loud for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ob and 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6668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I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with another person, always put other person’s name first. 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93680" y="838080"/>
            <a:ext cx="6762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obby and 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broke the blue lamp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93680" y="2209680"/>
            <a:ext cx="6762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lamp2"/>
          <p:cNvPicPr/>
          <p:nvPr/>
        </p:nvPicPr>
        <p:blipFill>
          <a:blip r:embed="rId1"/>
          <a:stretch/>
        </p:blipFill>
        <p:spPr>
          <a:xfrm>
            <a:off x="4038480" y="2590920"/>
            <a:ext cx="2441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6:39:22Z</dcterms:created>
  <dc:creator>Connie Campbell</dc:creator>
  <dc:description/>
  <dc:language>en-US</dc:language>
  <cp:lastModifiedBy>Emma Aitken</cp:lastModifiedBy>
  <dcterms:modified xsi:type="dcterms:W3CDTF">2012-03-17T23:01:20Z</dcterms:modified>
  <cp:revision>9</cp:revision>
  <dc:subject/>
  <dc:title>I or Me?</dc:title>
</cp:coreProperties>
</file>